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18C3-854B-4F3E-B55A-88E08AF7D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2176-F986-43D6-A531-A44E80067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B4D9-D977-4C32-AF58-6561B4103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1903-57BD-4395-B522-AEDA2B42B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0CDF-546A-4F48-B4E5-042F67436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481F-E9F7-40D4-9BD7-3642E901D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BEA0-B4CE-4946-9447-68A5C9131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93FD-76FC-4F76-9F24-511592B61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7205-E9BB-4C6D-A387-353E481F2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8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F1FA-0839-4E6E-9D39-BACE62CEC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8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F5EE-2337-413F-925F-16152BFB0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8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2B6C-AA14-4670-AF8B-D89013D50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8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6391-8719-46D4-9265-4AA95A5AB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8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A1C5-F37C-49B3-A463-D38D099C9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3B4-1B42-4823-9CD7-D1663F56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AD9-FFD3-4732-A3C9-B8C2DDF6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C12-07BF-4BE2-AB2B-E78E52C2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CFEF-FBF0-407A-8550-D9AE8111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4237-BD54-4CA4-B9CA-1EA4D198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F617-3A14-40A3-8DAB-53599525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39DA-701D-481F-AFE7-F89607B6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4771-2F00-4F68-A1EB-86CE879D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F637-DC26-4466-9013-E9CE6D22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7669-7DAC-4DDA-B421-75980CF8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43F5-06D4-482B-B62C-FCBA0C83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E9C-DB95-4174-A619-B879B2CE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8409-B36D-40BD-8621-D2B860A5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AC49-79CD-40D4-91B7-14A171F5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4682-C57C-4CFE-B0EB-6A552D6F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36CD-1E49-464E-948C-C10F75CF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63B2-A980-4752-BB7E-01A523EC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381-F5E5-44CC-9500-8F29B32C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A537-AC09-4570-AD7C-F5F69147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57D0-0F72-4A52-9535-DA550380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2948-6EFB-43F6-8AE1-6CBE00C1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0F28-4B5A-4A2A-925F-821453F8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698-866B-4246-A421-AF62370A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1773-F2CE-4B55-8400-413C9A95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n-Level RMBS Research,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FCF3-85FA-4BE3-B06E-89A13F5C63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n-Level RMBS Research,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C733-7A7C-4CEA-BCE3-56D5468790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gctinvestorreporting.bnymellon.com/Home.jsp" TargetMode="External"/><Relationship Id="rId2" Type="http://schemas.openxmlformats.org/officeDocument/2006/relationships/hyperlink" Target="https://sf.citidirect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anniemae.com/loanlookup/" TargetMode="External"/><Relationship Id="rId2" Type="http://schemas.openxmlformats.org/officeDocument/2006/relationships/hyperlink" Target="https://ww3.freddiemac.com/corporate/" TargetMode="External"/><Relationship Id="rId3" Type="http://schemas.openxmlformats.org/officeDocument/2006/relationships/hyperlink" Target="https://www.mers-servicerid.org/si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ro.edgar-online.com/expandedsearch.aspx" TargetMode="External"/><Relationship Id="rId2" Type="http://schemas.openxmlformats.org/officeDocument/2006/relationships/hyperlink" Target="http://www.sec.gov/edgar/searchedgar/companysearch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n-Level RMBS Research,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D3C5-C340-45FD-88B1-FCC568239B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Researching Loans Sold Into the Secondary Market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Kevin Byers, C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kpbyers@bellsouth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427 Moreland Ave, #25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Atlanta, GA  3030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PH: 404-525-400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Tools (cont’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to watch for entity inform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 from servicer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orsements and Ass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idavits filed with local recorder of d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losure notices and adverti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ruptcy filings: Notice of Appearance, Proof of Claim, Lift Stay Mo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S ServicerID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42960" indent="-2937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n-Level RMBS Research,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4743-75B2-4A47-AAA3-C807EC2892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n-Level RMBS Research,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B15A-A441-46FA-8EB6-C81264BFCB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MBS INVESTOR REPORTING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Remittance reports filed by servicers to trustees or securities administrators monthly, generally at the end of each mon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cludes detailed information for each bond class as well as performance information of the loans backing the secu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onthly report includes pool- and loan-level data (indexed by loan number) for bankruptcies, foreclosures, REO inventory, liquidations/prepayments, realized losses, loan modifications.  Pool-level data for delinquencies also inclu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Detailed monthly loan lists showing loans in each respective trust are filed by the servicer and are generally available from the applicable investor reporting entity at their web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n-Level RMBS Research,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81D4-7995-4F33-BC30-AEE8C9F0B9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nvestor Reporting Sites: Trustees, Master Servicers and Securities Administrator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0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Bank of New York Mellon (includes deals where JPMorgan Chase was original truste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8398a"/>
                </a:solidFill>
                <a:uFillTx/>
                <a:latin typeface="Georgia"/>
                <a:hlinkClick r:id="rId1"/>
              </a:rPr>
              <a:t>https://gctinvestorreporting.bnymellon.com/Home.j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Citi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8398a"/>
                </a:solidFill>
                <a:uFillTx/>
                <a:latin typeface="Georgia"/>
                <a:hlinkClick r:id="rId2"/>
              </a:rPr>
              <a:t>https://sf.citidirect.com/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Deutsche Bank National Trust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https://tss.sfs.db.com/investpublic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LaSalle Bank (login requir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http://www.etrustee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U.S. Bank, N.A. (login requir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https://trustinvestorreporting.usbank.com/TIR/login.js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Wells Fargo Bank, N.A. (login requir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http://www.ctslink.com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n-Level RMBS Research,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2AF9-285E-4A97-BC19-92A4E67EFC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ere to Find Public Securitization Documen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urities and Exchange Commission’s EDGAR database (free access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ttp://www.sec.gov/edgar/searchedgar/companysearch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lso can use EDGAR mirror sites (fee-based), e.g.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www.10kwizard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www.edgaronlin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pro.edgar-online.com/expandedsearch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Too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SE Loan Looku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398a"/>
                </a:solidFill>
                <a:uFillTx/>
                <a:latin typeface="Arial"/>
                <a:hlinkClick r:id="rId1"/>
              </a:rPr>
              <a:t>http://www.fanniemae.com/loanlookup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398a"/>
                </a:solidFill>
                <a:uFillTx/>
                <a:latin typeface="Arial"/>
                <a:hlinkClick r:id="rId2"/>
              </a:rPr>
              <a:t>https://ww3.freddiemac.com/corporat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ublic loan lookup available for Ginnie Mae securities (but can search MERS on FHA/VA case numbers or MI certificate nu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RS ServicerID System (maintained by members so trust-level information not typically disclosed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8398a"/>
                </a:solidFill>
                <a:uFillTx/>
                <a:latin typeface="Arial"/>
                <a:hlinkClick r:id="rId3"/>
              </a:rPr>
              <a:t>https://www.mers-servicerid.org/sis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281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n-Level RMBS Research,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694D-B61A-4BFE-B70B-720594473B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Tools (cont’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93760" indent="-2937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293760" indent="-2937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Private-label Securitiz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293760" indent="-2937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293760" indent="-2937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eral Rule: if a loan wasn’t sold into a security by the end of 2007 it probably was not securitized in a private-label de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293760" indent="-2937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293760" indent="-2937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n-Level RMBS Research,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C12A-4298-4559-9CE8-BC87DB4CDE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Tools (cont’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your ent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 sponsors, Originator and entities purchasing their lo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r names and shelf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servicer and successor servicer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riginator named in RMBS prospectus supplements?  Search filings at the following: </a:t>
            </a:r>
            <a:r>
              <a:rPr b="0" lang="en-US" sz="2400" spc="-1" strike="noStrike" u="sng">
                <a:solidFill>
                  <a:srgbClr val="18398a"/>
                </a:solidFill>
                <a:uFillTx/>
                <a:latin typeface="Arial"/>
                <a:hlinkClick r:id="rId1"/>
              </a:rPr>
              <a:t>http://pro.edgar-online.com/expandedsearch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424b5’s using narrow date ranges starting with the first few months after orig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n schedules filed with SEC: form FWP (Free Writing Prospectus) or 8-K as exhibit to Pooling and Servicing Agreement or Trust Agr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SEC filings 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8398a"/>
                </a:solidFill>
                <a:uFillTx/>
                <a:latin typeface="Arial"/>
                <a:hlinkClick r:id="rId2"/>
              </a:rPr>
              <a:t>http://www.sec.gov/edgar/searchedgar/companysearch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n-Level RMBS Research,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A5F8-58A0-4CF5-8EC5-68FE9E11FD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4A82-DA19-4FAD-8417-C7BE89C4EA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Finding PSA’s, etc. at sec.gov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1828800" y="28954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334120" y="1828800"/>
            <a:ext cx="53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838080" y="2362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See Handou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3581280" y="15238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315200" cy="50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90A5-4DE2-40E9-AEF1-78AFBFFBAB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ahoma"/>
              </a:rPr>
              <a:t>The PSA is an Exhibit to an early 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8-K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1828800" y="28954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334120" y="1828800"/>
            <a:ext cx="53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38080" y="2362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See Handou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581280" y="15238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31520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C939-37D9-4F75-887F-27678CC216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ahoma"/>
              </a:rPr>
              <a:t>The PSA is a larged-sized Exhibit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828800" y="28954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5334120" y="1828800"/>
            <a:ext cx="53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38080" y="2362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See Handou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581280" y="15238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15200" cy="48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C340-FFC2-402D-B8BD-DFB3D8ADE6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ahoma"/>
              </a:rPr>
              <a:t>Typical Prospectus Supplement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1828800" y="28954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334120" y="1828800"/>
            <a:ext cx="53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38080" y="2362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See Handou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581280" y="15238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534520" cy="42670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7"/>
          <p:cNvSpPr/>
          <p:nvPr/>
        </p:nvSpPr>
        <p:spPr>
          <a:xfrm>
            <a:off x="380880" y="525780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See also sections like “THE POOLING AND SERVICING AGREEMENT” and “ADMINISTRATION OF THE TRUST”.  These provide a plain-English summary of the parties, the transaction, and the doc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951A-E5E7-4A3B-B61D-D6759AFA53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457200" y="762120"/>
            <a:ext cx="82296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Latest Tools for Finding Out “Who Owns the Note?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nt Truth-in-Lending (TILA)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   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nt Qualified Written Request (QWR)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d Other Recent TILA and RESPA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6:56:30Z</dcterms:created>
  <dc:creator>Kevin Byers</dc:creator>
  <dc:description/>
  <dc:language>en-US</dc:language>
  <cp:lastModifiedBy>chopper</cp:lastModifiedBy>
  <dcterms:modified xsi:type="dcterms:W3CDTF">2010-09-15T19:08:30Z</dcterms:modified>
  <cp:revision>215</cp:revision>
  <dc:subject/>
  <dc:title>MORTGAGE SERVICING</dc:title>
</cp:coreProperties>
</file>